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5A3-F955-4A2C-AAB8-5D20D08F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A35-942B-4A16-8403-5DBE189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A29-AA0C-49EB-BC8E-DBC1DA63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C1A-28B9-41A4-9F3F-C5CDD0FD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902-A7CA-4798-A98A-568EC1B5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12B-446B-4910-BA68-8A3115C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1A0-8EC3-4F94-AF90-30683148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AC2-C328-4212-A77A-B71D635D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041-6DDE-4590-B533-8C7009A0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B23-920A-4ECF-A81F-5E1AD485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3D8-C5D8-42D2-AB51-7D29274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72C-BA0B-4C10-BCAC-E757A3F5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114F-5CC5-4544-98FC-07ABDEB7C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8380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8380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1066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133720"/>
            <a:ext cx="12193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133720"/>
            <a:ext cx="12193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3526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3526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9520" y="87804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82440" y="210996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0" y="32767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066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343400"/>
            <a:ext cx="3733560" cy="2133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94360" y="430380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 Comparison Web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464832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8920" y="46720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La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876920"/>
            <a:ext cx="12189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56272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8200" y="55864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75680" y="4836960"/>
            <a:ext cx="1311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avascript &amp; 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828800"/>
            <a:ext cx="12193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57200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386200">
            <a:off x="4801320" y="1143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70360" y="20574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376800">
            <a:off x="4779720" y="307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447920" cy="22096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209680"/>
              <a:gd name="textAreaBottom" fmla="*/ 2139120 h 2209680"/>
            </a:gdLst>
            <a:ahLst/>
            <a:rect l="textAreaLeft" t="textAreaTop" r="textAreaRight" b="textAreaBottom"/>
            <a:pathLst>
              <a:path w="21600" h="32961">
                <a:moveTo>
                  <a:pt x="3600" y="0"/>
                </a:moveTo>
                <a:arcTo wR="3600" hR="3600" stAng="16200000" swAng="-5400000"/>
                <a:lnTo>
                  <a:pt x="0" y="29361"/>
                </a:lnTo>
                <a:arcTo wR="3600" hR="3600" stAng="10800000" swAng="-5400000"/>
                <a:lnTo>
                  <a:pt x="18000" y="329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ice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162920" y="33526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02:00Z</dcterms:created>
  <dc:creator>sf</dc:creator>
  <dc:description/>
  <dc:language>en-US</dc:language>
  <cp:lastModifiedBy>sf</cp:lastModifiedBy>
  <dcterms:modified xsi:type="dcterms:W3CDTF">2007-09-14T17:09:06Z</dcterms:modified>
  <cp:revision>2</cp:revision>
  <dc:subject/>
  <dc:title>Slide 1</dc:title>
</cp:coreProperties>
</file>